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0.wmf" ContentType="image/x-wmf"/>
  <Override PartName="/ppt/media/image31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9BF9-6AB4-4D17-BACD-C388CF99D0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стория Э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146-7C47-41EF-9280-D3F5F570129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omputer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 (буквально —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ычислитель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ED9A-0A1C-4CDC-8CC7-4C62857703BC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48 году появился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urta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небольшой механический калькулятор, который можно было держать в одной ру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4BB5-62B2-49B7-89E6-CEA8521CB9C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7A2C-D667-4952-B9F6-9A01B573D6D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6 году, работая в изоляции в нацистской Германии, Конрад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Цузе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4C2D-D708-4E33-96F5-0222C947B0CB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A34-AF79-4B65-A2AD-F30535B340B8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607D-423F-480D-946C-14F1F89A8458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ACF8-EB2D-47A5-9A08-81493E35DE7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52A6-4F3A-45D4-933F-B71DCDEB9D9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6E76-EC7E-490A-B03D-20DF63B97AA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360F-9900-4A2A-B5E8-E7493478C3A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микропрограмма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3C28-B81A-4207-B5DA-272B46D842B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на транзистора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обычно говорят как о «втором поколении», которое доминировало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 1950-х и начале 1960-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1C13-1441-4F1F-ACB9-41C66799F5F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«Сетунь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7E9E-AA3A-4A22-BFFB-05DBF43F2E9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133C-C942-4BD0-A079-4AA8DA631C8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Стив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озня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8BC6-55DE-4870-BD6D-4E8FB8DCF09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92DD-FAC5-4CDB-88D3-E96E3B8D466E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мультимедийный персональный компьюте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C43C-0689-440B-9F0D-F462402B60D1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временный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ПК и его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но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79FF-C2C2-4E75-8EEC-0DFB0256CA20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оутб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ABBF-D65D-4C0C-B3C5-4645DD25834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аб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счёты)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D965-EF8E-4A10-8AE7-93036CE0D92F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писок вопро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ое приспособление для вычисления? (По-другому «счёты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то разработал ткацкий станок, в котором вышиваемый узор определялся перфокар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Что обозначает слово «computer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Небольшой механический калькулятор, который можно было держать в одной ру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строенные программы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сширяющие базовый набор коман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огда доминировало «второе поколение» компьютеров? На чём они работ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D517-2783-427A-B394-23239FBFC13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Аб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озеф Мари Жакк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Вычис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Cu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Микро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1950-ые, начало1960-ых гг. На транзист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«Сету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Сти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н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2E60-977E-40D1-B9B9-D2F49415999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2232-3206-49CD-8DDB-0520D8A6A49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F3BA-C08C-4031-A6FC-FAEFE4F4F46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аск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1AFB-D7C8-407F-8752-44F73ED4249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01 году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Жозеф Мари Жакка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95E2-E42C-46CE-9BCD-29CEC832D15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78A1-707A-4936-BCA6-080845070C5F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A9A3-9920-499F-B873-865842D61A83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0F7-9465-44F5-975F-6E01446D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74E-CA1C-41D6-BA58-4484D94E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E86-A0C4-48E6-9B13-78CA5928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0A2-0CFC-4B2B-AB79-60B6270C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F541E-4F08-4DF4-930A-20B2E14764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95039-9085-402C-B4A0-301A82E3F8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598A6-5D5C-418C-91DD-CB2A3F162D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56259-5DF3-43F8-BC22-064660211D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EE559-5BD4-42B3-A3BD-CD63835798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0C7F4-9DC5-4193-896F-2B8A66C97D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B32DC-98FC-41CF-8881-1F21860BD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01D-DD70-4885-B474-DA649B0F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29D59-4D16-49CA-815F-5BD50579DA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E79A9-05F8-43EF-9811-17C11CB130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1D73C-880A-483F-A822-6F4E0AD5F1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7D505-529B-4DC8-8167-0828CB77FA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AD7FF-7413-47C2-8B0D-50327CA8E4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547-2BF2-4BA1-B7B0-ABF75991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EFD-CADF-40B2-B207-6D6C748E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A0D-634E-4911-9493-9EA4A1E9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9B5-61C8-4A0B-82E3-30220155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46F-9987-4166-BB9E-268504FF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28A-EBE7-4333-BB7C-D383974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DCE-F2B4-4AFE-8B3E-50DDBF2E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E7D5-0240-4892-AFE7-450EEA42A808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9B70-648D-4062-89E8-5FFC0EC69F3B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64087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История ЭВМ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42920" y="3716280"/>
            <a:ext cx="62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тич Екатер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084720" y="5388120"/>
            <a:ext cx="305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11класса</a:t>
            </a:r>
            <a:br>
              <a:rPr sz="2400"/>
            </a:b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0" name="Picture 9" descr="or_39x"/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508200" cy="44528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compu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буквально —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2" name="Picture 4" descr="j0292020"/>
          <p:cNvPicPr/>
          <p:nvPr/>
        </p:nvPicPr>
        <p:blipFill>
          <a:blip r:embed="rId1"/>
          <a:stretch/>
        </p:blipFill>
        <p:spPr>
          <a:xfrm>
            <a:off x="0" y="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48 году появил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Cur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небольшой механический калькулятор, который можно было держать в одной руке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6" name="Picture 7" descr="468px-Curta01"/>
          <p:cNvPicPr/>
          <p:nvPr/>
        </p:nvPicPr>
        <p:blipFill>
          <a:blip r:embed="rId1"/>
          <a:stretch/>
        </p:blipFill>
        <p:spPr>
          <a:xfrm rot="21259200">
            <a:off x="5508720" y="2205000"/>
            <a:ext cx="2824200" cy="36133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259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0" name="Picture 7" descr="674px-AnitaMk8-01"/>
          <p:cNvPicPr/>
          <p:nvPr/>
        </p:nvPicPr>
        <p:blipFill>
          <a:blip r:embed="rId1"/>
          <a:stretch/>
        </p:blipFill>
        <p:spPr>
          <a:xfrm rot="228000">
            <a:off x="5579640" y="2612520"/>
            <a:ext cx="2952720" cy="2629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36 году, работая в изоляции в нацистской Германии, Конра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Цуз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3" name="Picture 5" descr="j0286034"/>
          <p:cNvPicPr/>
          <p:nvPr/>
        </p:nvPicPr>
        <p:blipFill>
          <a:blip r:embed="rId1"/>
          <a:stretch/>
        </p:blipFill>
        <p:spPr>
          <a:xfrm>
            <a:off x="8224920" y="5972040"/>
            <a:ext cx="919080" cy="885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7640" y="148392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6" name="Picture 7" descr="800px-Z3_Deutsches_Museum"/>
          <p:cNvPicPr/>
          <p:nvPr/>
        </p:nvPicPr>
        <p:blipFill>
          <a:blip r:embed="rId1"/>
          <a:stretch/>
        </p:blipFill>
        <p:spPr>
          <a:xfrm rot="21383400">
            <a:off x="4427640" y="2276280"/>
            <a:ext cx="4316400" cy="32367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424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9" name="Picture 7" descr="800px-Atanasoff-Berry_Computer_at_Durhum_Center"/>
          <p:cNvPicPr/>
          <p:nvPr/>
        </p:nvPicPr>
        <p:blipFill>
          <a:blip r:embed="rId1"/>
          <a:stretch/>
        </p:blipFill>
        <p:spPr>
          <a:xfrm>
            <a:off x="4356000" y="2060640"/>
            <a:ext cx="4619880" cy="3465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2" name="Picture 4" descr="j0234657"/>
          <p:cNvPicPr/>
          <p:nvPr/>
        </p:nvPicPr>
        <p:blipFill>
          <a:blip r:embed="rId1"/>
          <a:stretch/>
        </p:blipFill>
        <p:spPr>
          <a:xfrm>
            <a:off x="0" y="0"/>
            <a:ext cx="1712880" cy="16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5" name="Picture 7" descr="785px-Eniac"/>
          <p:cNvPicPr/>
          <p:nvPr/>
        </p:nvPicPr>
        <p:blipFill>
          <a:blip r:embed="rId1"/>
          <a:stretch/>
        </p:blipFill>
        <p:spPr>
          <a:xfrm rot="270000">
            <a:off x="4500360" y="2060280"/>
            <a:ext cx="4244760" cy="36734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8" name="Picture 10" descr="800px-SSEM_Replica"/>
          <p:cNvPicPr/>
          <p:nvPr/>
        </p:nvPicPr>
        <p:blipFill>
          <a:blip r:embed="rId1"/>
          <a:stretch/>
        </p:blipFill>
        <p:spPr>
          <a:xfrm rot="21385800">
            <a:off x="5148000" y="333360"/>
            <a:ext cx="3673440" cy="2630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49" name="Picture 11" descr="Manchester_Mark2"/>
          <p:cNvPicPr/>
          <p:nvPr/>
        </p:nvPicPr>
        <p:blipFill>
          <a:blip r:embed="rId2"/>
          <a:stretch/>
        </p:blipFill>
        <p:spPr>
          <a:xfrm rot="338400">
            <a:off x="5076720" y="3573000"/>
            <a:ext cx="3673440" cy="29242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2" name="Picture 6" descr="1185918034_lifted_1"/>
          <p:cNvPicPr/>
          <p:nvPr/>
        </p:nvPicPr>
        <p:blipFill>
          <a:blip r:embed="rId1"/>
          <a:stretch/>
        </p:blipFill>
        <p:spPr>
          <a:xfrm rot="21155400">
            <a:off x="179280" y="188640"/>
            <a:ext cx="2700360" cy="1844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7640" y="1341360"/>
            <a:ext cx="4319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кропрограмм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2" name="Picture 8" descr="621985495"/>
          <p:cNvPicPr/>
          <p:nvPr/>
        </p:nvPicPr>
        <p:blipFill>
          <a:blip r:embed="rId1"/>
          <a:stretch/>
        </p:blipFill>
        <p:spPr>
          <a:xfrm>
            <a:off x="4643280" y="1773360"/>
            <a:ext cx="4245120" cy="4032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транзисто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ычно говорят как о «втором поколении», которое доминирова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1950-х и начале 1960-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5" name="Picture 5" descr="j0287005"/>
          <p:cNvPicPr/>
          <p:nvPr/>
        </p:nvPicPr>
        <p:blipFill>
          <a:blip r:embed="rId1"/>
          <a:stretch/>
        </p:blipFill>
        <p:spPr>
          <a:xfrm>
            <a:off x="0" y="0"/>
            <a:ext cx="1357200" cy="2332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Сетун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8" name="Picture 7" descr="Снимок_Сетунь"/>
          <p:cNvPicPr/>
          <p:nvPr/>
        </p:nvPicPr>
        <p:blipFill>
          <a:blip r:embed="rId1"/>
          <a:stretch/>
        </p:blipFill>
        <p:spPr>
          <a:xfrm rot="412800">
            <a:off x="4716360" y="2133720"/>
            <a:ext cx="4056120" cy="3043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1" name="Picture 4" descr="j0293844"/>
          <p:cNvPicPr/>
          <p:nvPr/>
        </p:nvPicPr>
        <p:blipFill>
          <a:blip r:embed="rId1"/>
          <a:stretch/>
        </p:blipFill>
        <p:spPr>
          <a:xfrm>
            <a:off x="7405560" y="5030640"/>
            <a:ext cx="1738440" cy="182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и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зня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4" name="Picture 4" descr="j0195384"/>
          <p:cNvPicPr/>
          <p:nvPr/>
        </p:nvPicPr>
        <p:blipFill>
          <a:blip r:embed="rId1"/>
          <a:stretch/>
        </p:blipFill>
        <p:spPr>
          <a:xfrm>
            <a:off x="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7" name="Picture 6" descr="800px-IBзщM_PC_5150"/>
          <p:cNvPicPr/>
          <p:nvPr/>
        </p:nvPicPr>
        <p:blipFill>
          <a:blip r:embed="rId1"/>
          <a:stretch/>
        </p:blipFill>
        <p:spPr>
          <a:xfrm rot="21334800">
            <a:off x="4572000" y="2133360"/>
            <a:ext cx="4208400" cy="33019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46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ультимедийный персональный 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70" name="Picture 6" descr="704px-Amiga_1000DP"/>
          <p:cNvPicPr/>
          <p:nvPr/>
        </p:nvPicPr>
        <p:blipFill>
          <a:blip r:embed="rId1"/>
          <a:stretch/>
        </p:blipFill>
        <p:spPr>
          <a:xfrm rot="892800">
            <a:off x="5292360" y="2421000"/>
            <a:ext cx="3278160" cy="27939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6443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овременны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ПК и его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разновидности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Computer 4"/>
          <p:cNvPicPr/>
          <p:nvPr/>
        </p:nvPicPr>
        <p:blipFill>
          <a:blip r:embed="rId1"/>
          <a:stretch/>
        </p:blipFill>
        <p:spPr>
          <a:xfrm>
            <a:off x="1692360" y="1989000"/>
            <a:ext cx="5472000" cy="36975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645px-IBM_Thinkpad_R51"/>
          <p:cNvPicPr/>
          <p:nvPr/>
        </p:nvPicPr>
        <p:blipFill>
          <a:blip r:embed="rId1"/>
          <a:stretch/>
        </p:blipFill>
        <p:spPr>
          <a:xfrm rot="481200">
            <a:off x="539280" y="2349000"/>
            <a:ext cx="3168720" cy="29480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утбуки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0" descr="738px-Laptop-crank"/>
          <p:cNvPicPr/>
          <p:nvPr/>
        </p:nvPicPr>
        <p:blipFill>
          <a:blip r:embed="rId2"/>
          <a:stretch/>
        </p:blipFill>
        <p:spPr>
          <a:xfrm rot="20875200">
            <a:off x="4356000" y="691920"/>
            <a:ext cx="3168720" cy="2576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78" name="Picture 11" descr="computer_kids"/>
          <p:cNvPicPr/>
          <p:nvPr/>
        </p:nvPicPr>
        <p:blipFill>
          <a:blip r:embed="rId3"/>
          <a:stretch/>
        </p:blipFill>
        <p:spPr>
          <a:xfrm rot="886800">
            <a:off x="5813280" y="4011120"/>
            <a:ext cx="2913120" cy="24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24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б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чёты)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4969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 rot="436200">
            <a:off x="4716360" y="3284640"/>
            <a:ext cx="4103640" cy="32306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" descr="657px-AcerN10Wiki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81" name="Picture 9" descr="Toshiba_Portege_3500_Tablet_PC"/>
          <p:cNvPicPr/>
          <p:nvPr/>
        </p:nvPicPr>
        <p:blipFill>
          <a:blip r:embed="rId2"/>
          <a:stretch/>
        </p:blipFill>
        <p:spPr>
          <a:xfrm>
            <a:off x="5076720" y="1844640"/>
            <a:ext cx="381636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82" name="Text Box 11"/>
          <p:cNvSpPr/>
          <p:nvPr/>
        </p:nvSpPr>
        <p:spPr>
          <a:xfrm>
            <a:off x="5944680" y="1413000"/>
            <a:ext cx="30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шет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55240" y="1413000"/>
            <a:ext cx="27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ман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616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исок вопросов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ое приспособление для вычисления? (По-другому «счёты»)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то разработал ткацкий станок, в котором вышиваемый узор определялся перфокартам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то обозначает слово «computer»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ебольшой механический калькулятор, который можно было держать в одной рук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яющие базовый набор команд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гда доминировало «второе поколение» компьютеров? На чём они работал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бак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зеф Мари Жаккар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числитель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Curta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икропрограмма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50-ые, начало1960-ых гг. На транзисторах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Сетунь»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ти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як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compu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2"/>
          <p:cNvSpPr txBox="1"/>
          <p:nvPr/>
        </p:nvSpPr>
        <p:spPr>
          <a:xfrm>
            <a:off x="1476360" y="2276640"/>
            <a:ext cx="5905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Конец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-20880" y="5105520"/>
            <a:ext cx="1663560" cy="1658160"/>
            <a:chOff x="-20880" y="5105520"/>
            <a:chExt cx="1663560" cy="1658160"/>
          </a:xfrm>
        </p:grpSpPr>
        <p:sp>
          <p:nvSpPr>
            <p:cNvPr id="100" name="Gear"/>
            <p:cNvSpPr/>
            <p:nvPr/>
          </p:nvSpPr>
          <p:spPr>
            <a:xfrm rot="3823800">
              <a:off x="912240" y="5760000"/>
              <a:ext cx="609480" cy="647640"/>
            </a:xfrm>
            <a:custGeom>
              <a:avLst/>
              <a:gdLst>
                <a:gd name="textAreaLeft" fmla="*/ 123480 w 609480"/>
                <a:gd name="textAreaRight" fmla="*/ 503640 w 609480"/>
                <a:gd name="textAreaTop" fmla="*/ 118440 h 647640"/>
                <a:gd name="textAreaBottom" fmla="*/ 529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 rot="3823800">
              <a:off x="247320" y="5216400"/>
              <a:ext cx="729000" cy="774360"/>
            </a:xfrm>
            <a:custGeom>
              <a:avLst/>
              <a:gdLst>
                <a:gd name="textAreaLeft" fmla="*/ 147240 w 729000"/>
                <a:gd name="textAreaRight" fmla="*/ 601920 w 729000"/>
                <a:gd name="textAreaTop" fmla="*/ 142200 h 774360"/>
                <a:gd name="textAreaBottom" fmla="*/ 632160 h 77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 rot="3823800">
              <a:off x="138960" y="5779440"/>
              <a:ext cx="810360" cy="860400"/>
            </a:xfrm>
            <a:custGeom>
              <a:avLst/>
              <a:gdLst>
                <a:gd name="textAreaLeft" fmla="*/ 164160 w 810360"/>
                <a:gd name="textAreaRight" fmla="*/ 669600 w 810360"/>
                <a:gd name="textAreaTop" fmla="*/ 157680 h 860400"/>
                <a:gd name="textAreaBottom" fmla="*/ 70236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5" name="computr2"/>
          <p:cNvSpPr/>
          <p:nvPr/>
        </p:nvSpPr>
        <p:spPr>
          <a:xfrm>
            <a:off x="179280" y="115920"/>
            <a:ext cx="1584360" cy="1665360"/>
          </a:xfrm>
          <a:custGeom>
            <a:avLst/>
            <a:gdLst>
              <a:gd name="textAreaLeft" fmla="*/ 454320 w 1584360"/>
              <a:gd name="textAreaRight" fmla="*/ 1141920 w 1584360"/>
              <a:gd name="textAreaTop" fmla="*/ 147240 h 1665360"/>
              <a:gd name="textAreaBottom" fmla="*/ 751320 h 166536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скалин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800px-Arts_et_Metiers_Pascaline_dsc03869"/>
          <p:cNvPicPr/>
          <p:nvPr/>
        </p:nvPicPr>
        <p:blipFill>
          <a:blip r:embed="rId1"/>
          <a:stretch/>
        </p:blipFill>
        <p:spPr>
          <a:xfrm>
            <a:off x="888840" y="1952640"/>
            <a:ext cx="736452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01 год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озеф Мари Жакк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1" name="Picture 7" descr="Punch-card-blue"/>
          <p:cNvPicPr/>
          <p:nvPr/>
        </p:nvPicPr>
        <p:blipFill>
          <a:blip r:embed="rId1"/>
          <a:stretch/>
        </p:blipFill>
        <p:spPr>
          <a:xfrm>
            <a:off x="4643280" y="2852640"/>
            <a:ext cx="4316400" cy="2197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4" name="Picture 7" descr="BabbageDifferenceEngine"/>
          <p:cNvPicPr/>
          <p:nvPr/>
        </p:nvPicPr>
        <p:blipFill>
          <a:blip r:embed="rId1"/>
          <a:stretch/>
        </p:blipFill>
        <p:spPr>
          <a:xfrm rot="21434400">
            <a:off x="4572000" y="2133360"/>
            <a:ext cx="4316400" cy="33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507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7" name="Picture 6" descr="j0292982"/>
          <p:cNvPicPr/>
          <p:nvPr/>
        </p:nvPicPr>
        <p:blipFill>
          <a:blip r:embed="rId1"/>
          <a:stretch/>
        </p:blipFill>
        <p:spPr>
          <a:xfrm>
            <a:off x="0" y="0"/>
            <a:ext cx="1692360" cy="1670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21Z</dcterms:created>
  <dc:creator>Zver</dc:creator>
  <dc:description/>
  <cp:keywords>"PowerLexis" - Презентационное агентство</cp:keywords>
  <dc:language>en-US</dc:language>
  <cp:lastModifiedBy>LEGION</cp:lastModifiedBy>
  <dcterms:modified xsi:type="dcterms:W3CDTF">2015-04-01T07:04:05Z</dcterms:modified>
  <cp:revision>10</cp:revision>
  <dc:subject/>
  <dc:title>   История ЭВ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e000000000001023620</vt:lpwstr>
  </property>
</Properties>
</file>